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AA2-7190-4161-9CE3-F69E2ABD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A75-AFC4-4D46-8BD1-0E4CD1F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57A-ECC0-4904-9215-CB5F4CAC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E22-19D2-429B-B083-C8955C25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00D-AAB4-4265-967A-8BC5500C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8F0-1718-4DF1-9A8A-F8D4D8B0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976-9DF2-40CB-88E1-AD29C1DB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59F-2A16-42EB-BA48-8BCE3D9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562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B96-F161-4E36-B85F-EE8FEA44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EB6-E426-4767-83BA-3CDB2F81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200-3E5E-46EC-B412-BC91EF2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D51-1C28-4EE8-BC23-F3A81BC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98DA-2B09-4F09-9B6C-B96844981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8763120" cy="529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76312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welve in the Be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ere 12 in the bed and the little one said, “Roll over, roll over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they all rolled over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ell ou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ere 11 in the bed and the little one said, “Roll over, roll over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they all rolled over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ell ou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ere 10 in the bed and the little one said, “Roll over, roll over.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they all rolled over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ell ou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as 1 in the bed and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hild’s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i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Good Night!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20:40Z</dcterms:created>
  <dc:creator>Patti Porto</dc:creator>
  <dc:description/>
  <dc:language>en-US</dc:language>
  <cp:lastModifiedBy>Patti Porto</cp:lastModifiedBy>
  <dcterms:modified xsi:type="dcterms:W3CDTF">2008-01-24T15:31:17Z</dcterms:modified>
  <cp:revision>2</cp:revision>
  <dc:subject/>
  <dc:title>Twelve in a Bed</dc:title>
</cp:coreProperties>
</file>